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13.png" ContentType="image/png"/>
  <Override PartName="/ppt/media/image8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2.wmf" ContentType="image/x-wmf"/>
  <Override PartName="/ppt/media/image9.jpeg" ContentType="image/jpeg"/>
  <Override PartName="/ppt/media/image29.jpeg" ContentType="image/jpeg"/>
  <Override PartName="/ppt/media/image28.png" ContentType="image/png"/>
  <Override PartName="/ppt/media/image16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EC3D-EC7E-48FC-A390-2113DC13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252E-6654-49AD-BFB8-8F9F3EE4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A11D-A411-481A-A4E5-87678966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0FF7-2641-4AF0-9236-2AEDDE94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72E7-10DA-4955-B8D1-4A324364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26F1-A387-40E0-A911-B93A19CF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03AB-6000-4DAA-AC00-DFF67392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74E1-7DD5-4542-B671-0003C720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F8D5-EEB1-48B5-8595-6FF6B218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2243-7BE3-47E0-A79A-FB8B76B2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6D91-C4A7-41CB-AF82-92504FF5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FCEA-1DEA-47F8-8350-40158492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07F5-C633-4138-AAAC-081972B4B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"/>
          <p:cNvPicPr/>
          <p:nvPr/>
        </p:nvPicPr>
        <p:blipFill>
          <a:blip r:embed="rId1"/>
          <a:srcRect l="0" t="0" r="46419" b="0"/>
          <a:stretch/>
        </p:blipFill>
        <p:spPr>
          <a:xfrm>
            <a:off x="1117440" y="990720"/>
            <a:ext cx="8026560" cy="30938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914400" y="38098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nan (Roger) Sipitak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ang Mai University, Thai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57200" y="9144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mputational Think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 Means for Human Compreh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371600" y="5715000"/>
            <a:ext cx="624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ngsana New"/>
              </a:rPr>
              <a:t>OLPC Regional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ngsana New"/>
              </a:rPr>
              <a:t>July 28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2">
            <a:lum bright="54000"/>
          </a:blip>
          <a:srcRect l="0" t="0" r="18141" b="0"/>
          <a:stretch/>
        </p:blipFill>
        <p:spPr>
          <a:xfrm>
            <a:off x="7754760" y="884160"/>
            <a:ext cx="1389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ording.wmv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6000" y="446040"/>
            <a:ext cx="673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Children experiencing and thinking ab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balance control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862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IF-THE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364400" y="4952520"/>
            <a:ext cx="615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Angsana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ngsana New"/>
              </a:rPr>
              <a:t> angle &lt; 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Angsana New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ngsana New"/>
              </a:rPr>
              <a:t> setpower  8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Angsana New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Angsana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ngsana New"/>
              </a:rPr>
              <a:t> angle &gt; 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Angsana New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ngsana New"/>
              </a:rPr>
              <a:t> setpower -8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Angsana New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1622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endulum simple ifthen.avi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781680" cy="54100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8934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s’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120" y="2666880"/>
            <a:ext cx="541044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 was moving too slowl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 was too “bounc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924680" y="990720"/>
            <a:ext cx="758880" cy="317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4"/>
          <a:srcRect l="0" t="0" r="6640" b="0"/>
          <a:stretch/>
        </p:blipFill>
        <p:spPr>
          <a:xfrm>
            <a:off x="0" y="1066680"/>
            <a:ext cx="883908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990720" y="2208600"/>
            <a:ext cx="7041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angle &gt; 10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angle &lt; 1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[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setpower 6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angle &gt;  5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angle &lt; 1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[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setpower 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angle &gt;  0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angle &lt;  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[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setpower 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angle &gt; -15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angle &lt; -1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[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setpower -6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angle &gt; -10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angle &lt; -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[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setpower -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angle &gt; -5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angle &lt;  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[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setpower -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IF-THEN Rules with Gra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4280" y="1752480"/>
            <a:ext cx="62049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ngsana New"/>
              </a:rPr>
              <a:t>Introducing the idea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  <a:ea typeface="Angsana New"/>
              </a:rPr>
              <a:t>Anticip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serving Body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924680" y="990720"/>
            <a:ext cx="758880" cy="317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2"/>
          <a:srcRect l="0" t="0" r="6640" b="0"/>
          <a:stretch/>
        </p:blipFill>
        <p:spPr>
          <a:xfrm>
            <a:off x="0" y="1066680"/>
            <a:ext cx="8839080" cy="1014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3"/>
          <a:stretch/>
        </p:blipFill>
        <p:spPr>
          <a:xfrm>
            <a:off x="685800" y="2743200"/>
            <a:ext cx="7772400" cy="26449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"/>
          <p:cNvSpPr/>
          <p:nvPr/>
        </p:nvSpPr>
        <p:spPr>
          <a:xfrm>
            <a:off x="6098040" y="297180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808080"/>
                </a:solidFill>
                <a:latin typeface="Arial"/>
                <a:ea typeface="Angsana New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4650480" y="1600200"/>
            <a:ext cx="39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Does this ever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>
            <a:off x="6629400" y="2133720"/>
            <a:ext cx="0" cy="5331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serving Body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924680" y="990720"/>
            <a:ext cx="758880" cy="317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2"/>
          <a:srcRect l="0" t="0" r="6640" b="0"/>
          <a:stretch/>
        </p:blipFill>
        <p:spPr>
          <a:xfrm>
            <a:off x="0" y="1066680"/>
            <a:ext cx="8839080" cy="10144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1"/>
          <p:cNvSpPr/>
          <p:nvPr/>
        </p:nvSpPr>
        <p:spPr>
          <a:xfrm>
            <a:off x="1369440" y="2209680"/>
            <a:ext cx="7275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ngsana New"/>
              </a:rPr>
              <a:t>Observing live actio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ngsana New"/>
              </a:rPr>
              <a:t>Reviewing recorded video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ngsana New"/>
              </a:rPr>
              <a:t>Reviewing recorded sensor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ording.wmv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862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172200" cy="4119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460800" y="1066680"/>
            <a:ext cx="28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Car Speed (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3738240" y="99072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Pendulum’s Angle (Yel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839880" y="350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26"/>
          <p:cNvGraphicFramePr/>
          <p:nvPr/>
        </p:nvGraphicFramePr>
        <p:xfrm>
          <a:off x="1371600" y="1752480"/>
          <a:ext cx="61722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752480"/>
                    <a:ext cx="6172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Line 9"/>
          <p:cNvSpPr/>
          <p:nvPr/>
        </p:nvSpPr>
        <p:spPr>
          <a:xfrm>
            <a:off x="1828800" y="1600200"/>
            <a:ext cx="228600" cy="9907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4419360" y="1447920"/>
            <a:ext cx="533160" cy="182880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Exampl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ation i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64832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giving a solution is insu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37339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Need time and space to negotiate meaning thems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vlcsnap-1648402"/>
          <p:cNvPicPr/>
          <p:nvPr/>
        </p:nvPicPr>
        <p:blipFill>
          <a:blip r:embed="rId1"/>
          <a:stretch/>
        </p:blipFill>
        <p:spPr>
          <a:xfrm>
            <a:off x="1905120" y="1828800"/>
            <a:ext cx="5486400" cy="40910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ngsana New"/>
              </a:rPr>
              <a:t>Top Tip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7924680" y="990720"/>
            <a:ext cx="758880" cy="317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3"/>
          <a:srcRect l="0" t="0" r="6640" b="0"/>
          <a:stretch/>
        </p:blipFill>
        <p:spPr>
          <a:xfrm>
            <a:off x="0" y="1066680"/>
            <a:ext cx="883908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ngsana New"/>
              </a:rPr>
              <a:t>Descriptions on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lance B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924680" y="990720"/>
            <a:ext cx="758880" cy="317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2"/>
          <a:srcRect l="0" t="0" r="6640" b="0"/>
          <a:stretch/>
        </p:blipFill>
        <p:spPr>
          <a:xfrm>
            <a:off x="0" y="1066680"/>
            <a:ext cx="8839080" cy="1014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2057400" y="1523880"/>
            <a:ext cx="502920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9983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629400" y="3200400"/>
            <a:ext cx="2095560" cy="28195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0" y="20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440" y="4510800"/>
            <a:ext cx="2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2" descr=""/>
          <p:cNvPicPr/>
          <p:nvPr/>
        </p:nvPicPr>
        <p:blipFill>
          <a:blip r:embed="rId2"/>
          <a:stretch/>
        </p:blipFill>
        <p:spPr>
          <a:xfrm>
            <a:off x="388800" y="457200"/>
            <a:ext cx="2538720" cy="2666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1870200" cy="2514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"/>
          <p:cNvPicPr/>
          <p:nvPr/>
        </p:nvPicPr>
        <p:blipFill>
          <a:blip r:embed="rId4"/>
          <a:stretch/>
        </p:blipFill>
        <p:spPr>
          <a:xfrm>
            <a:off x="3581280" y="457200"/>
            <a:ext cx="2400480" cy="2666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5" descr=""/>
          <p:cNvPicPr/>
          <p:nvPr/>
        </p:nvPicPr>
        <p:blipFill>
          <a:blip r:embed="rId5"/>
          <a:stretch/>
        </p:blipFill>
        <p:spPr>
          <a:xfrm>
            <a:off x="3200400" y="3276720"/>
            <a:ext cx="3048120" cy="2633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6" descr=""/>
          <p:cNvPicPr/>
          <p:nvPr/>
        </p:nvPicPr>
        <p:blipFill>
          <a:blip r:embed="rId6"/>
          <a:stretch/>
        </p:blipFill>
        <p:spPr>
          <a:xfrm>
            <a:off x="6477120" y="457200"/>
            <a:ext cx="2355840" cy="26668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7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2880" y="586728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Spi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16960" y="586728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65440" y="586728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304920"/>
            <a:ext cx="0" cy="609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04920"/>
            <a:ext cx="0" cy="609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-orbit Reaction Control System (RCS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924680" y="990720"/>
            <a:ext cx="758880" cy="317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2"/>
          <a:srcRect l="0" t="0" r="6640" b="0"/>
          <a:stretch/>
        </p:blipFill>
        <p:spPr>
          <a:xfrm>
            <a:off x="0" y="1066680"/>
            <a:ext cx="8839080" cy="10144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4876920" y="44956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2666880" y="25909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space shuttle rcs thrusters"/>
          <p:cNvPicPr/>
          <p:nvPr/>
        </p:nvPicPr>
        <p:blipFill>
          <a:blip r:embed="rId3"/>
          <a:stretch/>
        </p:blipFill>
        <p:spPr>
          <a:xfrm>
            <a:off x="2057400" y="1752480"/>
            <a:ext cx="480060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Phase plane for shuttle rotational and attitude control"/>
          <p:cNvPicPr/>
          <p:nvPr/>
        </p:nvPicPr>
        <p:blipFill>
          <a:blip r:embed="rId1"/>
          <a:stretch/>
        </p:blipFill>
        <p:spPr>
          <a:xfrm>
            <a:off x="1143000" y="1523880"/>
            <a:ext cx="7010280" cy="44452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ase-Plane Controll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7924680" y="990720"/>
            <a:ext cx="758880" cy="317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3"/>
          <a:srcRect l="0" t="0" r="6640" b="0"/>
          <a:stretch/>
        </p:blipFill>
        <p:spPr>
          <a:xfrm>
            <a:off x="0" y="1066680"/>
            <a:ext cx="8839080" cy="10144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8"/>
          <p:cNvSpPr/>
          <p:nvPr/>
        </p:nvSpPr>
        <p:spPr>
          <a:xfrm>
            <a:off x="4876920" y="44956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2666880" y="25909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0" descr="Phase plane for shuttle rotational and attitude control"/>
          <p:cNvPicPr/>
          <p:nvPr/>
        </p:nvPicPr>
        <p:blipFill>
          <a:blip r:embed="rId1"/>
          <a:stretch/>
        </p:blipFill>
        <p:spPr>
          <a:xfrm>
            <a:off x="4114800" y="2403360"/>
            <a:ext cx="5029200" cy="318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aris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7924680" y="990720"/>
            <a:ext cx="758880" cy="317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rcRect l="0" t="0" r="6640" b="0"/>
          <a:stretch/>
        </p:blipFill>
        <p:spPr>
          <a:xfrm>
            <a:off x="0" y="1066680"/>
            <a:ext cx="8839080" cy="101448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7"/>
          <p:cNvSpPr/>
          <p:nvPr/>
        </p:nvSpPr>
        <p:spPr>
          <a:xfrm>
            <a:off x="4876920" y="44956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666880" y="25909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7" descr=""/>
          <p:cNvPicPr/>
          <p:nvPr/>
        </p:nvPicPr>
        <p:blipFill>
          <a:blip r:embed="rId4"/>
          <a:stretch/>
        </p:blipFill>
        <p:spPr>
          <a:xfrm>
            <a:off x="380880" y="2666880"/>
            <a:ext cx="358164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0673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924680" cy="50990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560" y="5867280"/>
            <a:ext cx="42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-cpe.org/olpc/chaba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816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-990720" y="-609480"/>
            <a:ext cx="17880120" cy="137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573 0.25602 L -0.58594 -0.75509 E">
                                      <p:cBhvr>
                                        <p:cTn id="78" dur="5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2591640" y="2895480"/>
            <a:ext cx="380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ngsana New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 I: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828800" y="1371600"/>
                <a:ext cx="510552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7" name=""/>
          <p:cNvGrpSpPr/>
          <p:nvPr/>
        </p:nvGrpSpPr>
        <p:grpSpPr>
          <a:xfrm>
            <a:off x="1295280" y="2895480"/>
            <a:ext cx="6172200" cy="3200400"/>
            <a:chOff x="1295280" y="2895480"/>
            <a:chExt cx="6172200" cy="3200400"/>
          </a:xfrm>
        </p:grpSpPr>
        <p:sp>
          <p:nvSpPr>
            <p:cNvPr id="58" name=""/>
            <p:cNvSpPr/>
            <p:nvPr/>
          </p:nvSpPr>
          <p:spPr>
            <a:xfrm>
              <a:off x="1295280" y="2895480"/>
              <a:ext cx="6172200" cy="3200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8800" y="3276720"/>
              <a:ext cx="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28800" y="586728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25320" y="3048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95880" y="567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86000" y="3657600"/>
              <a:ext cx="3276720" cy="1346040"/>
            </a:xfrm>
            <a:custGeom>
              <a:avLst/>
              <a:gdLst/>
              <a:ahLst/>
              <a:rect l="l" t="t" r="r" b="b"/>
              <a:pathLst>
                <a:path w="2064" h="848">
                  <a:moveTo>
                    <a:pt x="0" y="480"/>
                  </a:moveTo>
                  <a:cubicBezTo>
                    <a:pt x="260" y="664"/>
                    <a:pt x="520" y="848"/>
                    <a:pt x="864" y="768"/>
                  </a:cubicBezTo>
                  <a:cubicBezTo>
                    <a:pt x="1208" y="688"/>
                    <a:pt x="1984" y="0"/>
                    <a:pt x="2064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ethod II: Computation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Compreh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1981080"/>
            <a:ext cx="3124080" cy="31244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19520" y="1981080"/>
            <a:ext cx="3124080" cy="31244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45160" y="2414520"/>
            <a:ext cx="511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 . Pi . (r1-r2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157480" y="990720"/>
            <a:ext cx="5005080" cy="4681080"/>
            <a:chOff x="2157480" y="990720"/>
            <a:chExt cx="5005080" cy="4681080"/>
          </a:xfrm>
        </p:grpSpPr>
        <p:sp>
          <p:nvSpPr>
            <p:cNvPr id="78" name=""/>
            <p:cNvSpPr/>
            <p:nvPr/>
          </p:nvSpPr>
          <p:spPr>
            <a:xfrm>
              <a:off x="2796840" y="1592640"/>
              <a:ext cx="3731400" cy="35010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96840" y="1592640"/>
              <a:ext cx="3731400" cy="35010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4520" y="1234080"/>
              <a:ext cx="4496760" cy="421884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57480" y="990720"/>
              <a:ext cx="573840" cy="53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578640" y="5129640"/>
              <a:ext cx="573840" cy="53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61440" y="5133240"/>
              <a:ext cx="573840" cy="53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588720" y="996480"/>
              <a:ext cx="573840" cy="53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alance Contr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1"/>
          <a:stretch/>
        </p:blipFill>
        <p:spPr>
          <a:xfrm>
            <a:off x="3886200" y="3403440"/>
            <a:ext cx="486108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7T23:54:18Z</dcterms:created>
  <dc:creator>arnans</dc:creator>
  <dc:description/>
  <dc:language>en-US</dc:language>
  <cp:lastModifiedBy>olpc</cp:lastModifiedBy>
  <dcterms:modified xsi:type="dcterms:W3CDTF">2008-08-07T14:35:55Z</dcterms:modified>
  <cp:revision>11</cp:revision>
  <dc:subject/>
  <dc:title>Using Computational Thinking  as  Means for Human Comprehension</dc:title>
</cp:coreProperties>
</file>